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A40-F435-45A3-845E-F400BC23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8AD-AF68-4F94-B3EF-A8A7656D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A2478-3981-4822-BCE0-718C1C14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A7ED2-8702-42D8-9341-D04782D1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69EEC-9C3E-46B8-A6E6-0F106A4E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A0D22-813D-443E-84E6-88C3575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76047-3871-4638-8FA1-2E9A6E3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7E821-37F2-4B3E-9B4B-734784C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256F5-E69B-40DD-A861-6E109B7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98E5D-8D37-4862-93E0-8AD5A3A0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81AC-3A82-4AFF-B393-0FE522B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F2906-AD83-4061-AD85-DE58565E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325-6097-4428-B449-5BF9DEF3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95306-C078-4F1B-A27A-9A87DE03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4074F-1F11-4DF8-A82E-5B29639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E8582-8A62-40B5-B8D0-7ABE4B7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D00D3-FE10-4F4C-A107-929AA79E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C16D6-6AEB-4419-BE8E-4FF07856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4C747-DD9E-4FD7-A8A6-41F66AD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6EC0D-F079-4600-99B4-C7711133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6193F-A6E5-475D-BC68-C0F8B3D3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149F8-9531-46A1-AC47-7C94293A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508EE-EA4B-45ED-9FDF-501B5F0C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170-6B57-4CE1-BFEC-DEF73F55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CF017-EA35-4F99-B540-9008A35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0DD5C-1ADB-49A9-A132-400C528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F066-E3AA-44EE-AE28-170E75F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B7189-D8AC-44A0-8647-00CF7E11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9E01C-7145-430F-9E35-4CFF0D6C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ACCEB-C5B9-453F-BF3A-9034D49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F2787-7303-4995-AD09-B32C5D53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25F5C-45FA-4FDB-8224-58887214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DFBF1-0A40-4ABF-85D9-D5CFF97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C3AE7-4823-41CF-9074-A439440F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FBC3-5EF3-48C1-A686-F6430CEE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A33F7-9742-4C82-8E1B-96FDA93D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9745C-1430-40D8-B0F1-63289A0A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B71C7-C803-4C3E-9F9F-973E468B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6A895-BBBD-4303-BC0B-F284CECC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0DB0A-DAF4-4496-B6D2-45E5DE1E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8FBC9-6409-431E-A598-69323A0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B1F8E-01FA-430C-BEC6-883740B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1DF4F-72BF-4154-8D39-CB4F772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8A4F4-F485-4568-932D-884F797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7587A-0A89-43DF-BC4D-CE7484D1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009F-576D-48E0-8D70-B216671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59FB6-B240-4440-BFA3-C910ACB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95A0-1A25-46FB-A2AC-7566192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6CBFC-9B59-4872-A4FD-30B7B64E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3EF75-1B63-43E0-95B9-FD56E78F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58800-186F-4235-9A3D-3DD65C2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B1C01-1DC7-4665-9179-5FCDE27C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E01B2-D2CC-4E95-B6E8-64F8AE26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80EBC-3FD3-4922-8244-79BBD52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1063A-03CF-4A87-A646-5A84DFD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1E9D6-72FD-4C09-9675-670EED3D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F805-7D67-466A-BB7F-2C616CD7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CDD7F-3954-4B5D-B376-D4DA968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A9A89-9182-4CA6-A32A-B428A8E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CCD7D-3B45-4FF0-9F7E-D88860D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C4666-AFEF-475E-9F06-9F4E91C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B618C-733C-4FCF-B11A-1C7FC13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D57E3-F948-472B-814F-BC3FDA20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B16FF-8FE1-46BB-91F3-FF231ED9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FBB44-DDFF-483F-8F12-AF736779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4DF15-0F1D-42A0-9D06-DAE5CFC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F605B-C865-4DEF-ABFD-15C0DB6D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21C-9B28-48DC-BAEE-8397FE4E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B6637-A589-4951-A579-CBB8A78A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B652C-14C3-48A8-A3AD-092E4D3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88F92-25BD-4272-A9FA-2A74C46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9295C-4FF7-460F-AE4C-099260A3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7E9A3-A588-4687-A369-19C645C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2AE0B-20CE-4C61-B22A-4E74910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CFCAA-4498-4A9C-AE36-1DFA030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F0427-6123-4D3E-BCF8-EA9FA971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5B4D6-9879-4227-888A-E063E019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CC563-AD82-42BB-8C31-61D1D449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5F2D-4D20-4A7B-86BD-75B54388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82FE6-6708-4DD9-80C1-75D153E8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839C2-E9CB-4024-B2FA-CE76237E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F69C9-38AA-4576-8555-41214482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AAB74-A4BB-45A7-88E3-1E3ACBE9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9AEF3-973E-4F0A-A5EA-B20C458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C19F3-5FB0-43EA-BC94-571F5FFA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BEED3-135A-454C-907F-012AB08D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88E65-82B5-4313-BF74-C9A153B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3F158-26CD-4B1E-877B-098C3946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ED3BA-83B2-434B-AF6D-4F751F32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AFE-B952-43F8-B7D1-B91E908B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37595-DD0F-4BF2-9ACF-264805AA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7F455-E348-4F9A-A3E2-FA019F2E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EABE4-1260-46B1-A64F-697336E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3380B-A70A-4D01-A7AD-DD4D90E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91DA5-4FE4-40D4-A1DD-4C45011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BC47E-617C-4CAD-98A3-28F8A6D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96A97-2D54-4170-B63D-3CA029D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4F0B7-55B4-4FF0-B850-F399891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C407E-A718-4383-A5CE-C027ED1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B9D1B-5BC6-4626-A82F-38D1978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075-DB4F-41DF-B76C-FB2FC2A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859C5-1465-4E62-8AF0-72F6F8F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C044F-AABE-4554-8B2A-E6238D47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09CEB-73BE-474F-A4A4-7EF2AF88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26CDE-43E9-482E-ABCA-9837B278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D4ED6-333F-4851-B640-BC19C5EF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1DAFE-163C-4368-86DC-9161B34E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68379-04F7-4B82-8593-89583B1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68F13-40C1-4498-90E8-B965B79D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F7AD6-EF1B-470C-9FE9-5506EBA7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0E8EB-6FEB-4656-A56F-EE1B1F2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B6D-75E3-4224-AA8C-2D203EDE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527-0473-47D2-9B79-A400FD4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E22F1-4966-4A3F-B004-6864DFB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E241A-5A12-42CE-A2D8-8D2B688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5BFEA-C86A-4574-A440-99425F6C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6BB08-4AF6-45F8-8042-5A35D770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23561-F105-4D31-8768-9E1D66FD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4EF6D-602B-4F7C-813F-32F383F6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8CBDA-FBAC-4451-9495-FB2176D2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0BB8A-41C1-4398-AE53-64567863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E211C-1142-47D0-B105-1EE40162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6D236-4259-4E7B-8DD9-D473E0EC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21FA-091A-4F90-889D-997E025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490D7-B01E-43AB-8C8C-3EFA24D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8847B-A341-41A8-BE0D-0554543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6F1D8-9804-4918-B9C3-CD5F38B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66C1F-9DA2-4524-A15D-C346357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F6AED-0602-4610-B436-E2325966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BE865-EAC5-4F16-8387-C548D164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76F41-93B1-415D-A034-561CECFE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95C7F-0F3C-49C8-948C-214B27EB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568A8-1686-4ABE-9264-A82FECF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563C4-59D6-44C9-9179-9DFE0FAC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74E9-E809-4737-8782-57B17B64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684B2-94FB-48B1-BBA6-8F0311E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7DB79-4017-4B15-A9E1-22F7A5B6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56DE4-8108-4139-A9FD-F0ED2E5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4708D-A7D8-4692-9307-2D2804A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F720C-D47F-489E-ABDA-ABC0DF1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7B5CD-4CE9-4A7B-95B2-DCCB501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DA450-2E7C-4BC4-A0F3-5FC5AAE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B7ADE-D271-49AA-BFD4-89FE76D5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9651A-1B9A-4F1F-8069-AD84EF28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1B5FC-6182-4249-9F1F-9064BE66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A3BF-A7D0-478A-A229-CD532170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8975F-0956-41FA-A6B8-9601AD0C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69E9C4-AD2C-40EF-89C9-C4F4BABF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9C6C3-0E99-48B4-9C71-ED4A0B7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A0835-78BC-4DE0-B12A-F0CFAD71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0F2F4-B91C-4263-BA54-620CB5A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BFE55-B40D-4DAF-AB8C-8A1888F3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FB997-8CAE-45A9-B781-7F42E42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BB957-AD59-400F-9C2A-B90A123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5DB3D-E54E-4D9E-A9EF-7C9723BD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FFB27-0598-4606-9A17-350FA8F0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7A38-EEA5-4F16-B4CC-C22870FC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D4EE5-4269-4FA9-9A09-B580B508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E3DFC-884D-4B57-AF71-09387E04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A5AC0A-F438-4B55-A6FD-976785C6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0775F-B392-4B0C-9864-4F022BF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CBBF4-4434-4394-ABAD-EEB7D806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AD4D7-8843-4890-91BD-B2E9E124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65599-567D-4253-9769-52F1D28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85022-CC99-422E-8A59-10CA1C0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28168-933A-4B64-BCCF-025EBD8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441077-CFE8-4A73-B708-0335BBE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9627-91EE-4608-B844-F8C16CAA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1F559-2F19-4074-98E6-C2EAFBF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C08D3B-1AA4-47E9-8C25-F942FC88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9FD0E-3E03-4434-A876-6D369679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5559-90F1-42F6-B9EC-A2D0F876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ADD2-2483-4F2B-8E60-4E9CAD20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8BBF-1566-41BE-995A-A82AC752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E906-B4B3-4F5F-8FF6-51CAFC6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3B1-2535-4514-89A9-FB6216D4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33F6-FB99-4490-B766-081D1FC9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2939-56AD-49A8-8F68-880428E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3437-7062-4D29-9D06-94335BD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0CB7-9FCD-4EC0-B1B9-9E589D8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062A-4E61-499A-9A03-965A315A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6221-8E16-4AA4-8536-CC0951A0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6E0E-8AAD-474F-96D7-06EB7D7A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72C4-8CD1-45D0-97D2-5465C1B1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4C9B-C4AB-4083-8BD4-E939ECB7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93BF-6AB1-4057-8FD7-9405173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565-7573-4F95-B302-8B898BE2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F3B0-8222-4656-BA38-BC5FE19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A0F7-7FFF-43E9-8EC2-CE44924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E0B0-6E1B-4BE7-A5E4-20669D58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CCBE-5025-4CB5-9658-D3D2DE2A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9C9F-CF29-4D9C-AA2B-685A45D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8B29-8E76-47E2-9B9E-B2F2B79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1ACC-F626-48B1-B381-3A926C2E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BA2D-D7A0-496B-8434-6D666A86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C3C1-22B1-4960-8DF2-DDEA3D24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21AD9-E89F-42BB-B419-FDBEBF5C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B7A-F738-4A44-9945-73B5612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12B9-68BA-4B47-8F1A-E51283B8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0530-2E1F-4ADE-87DD-BE75B6B3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2CFB9-8707-4A8D-9032-534CADF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22312-5AC0-48B1-9AC8-378B752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98B3-7F8D-44F2-AB58-0A26529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15F7-4FE1-4C96-A85B-1FE25E4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C14B-C77D-4171-8C95-D5A57BE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51ED-C849-43C7-B832-E2A2E07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28B6-EDBA-4A72-A179-1AC5397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0D157-8FF9-4D92-B7A5-2F4ED444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5EC-2424-444D-A83E-FC363601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2AD0-1396-4128-A3BA-148BB370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986A-DA1B-48B6-AE76-8D9F4A4D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188B-1F1D-4D5B-94C8-C78ED257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FEFEC-29FB-463B-A4C5-5D0558E1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2B70-1BD5-4589-BC1C-C0972A5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AC8A9-04B2-4311-BE54-B379DADE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6A5F-6F50-4FA0-9CA2-2BA13C43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50D73-D6BC-4B27-9644-48549898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3FD3-84F0-48A9-92A2-7537A14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A419-4551-4C1C-87D6-5B24C1E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75A-B96E-4E7A-831F-8EFB5E7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7CD1-5107-4DB2-9E7A-F72A592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4729-A645-4A11-A7D3-C8D95109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2B50-886A-47C3-8652-E2BA0860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BCB9D-A0CC-4BE6-B80F-F68FA02E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DD4F6-2F70-432D-9606-1B712AE6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9DC0-63D3-4641-B7B5-AAFF6475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22DE-FB81-4BE5-96EA-EC2E3DB1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A7D5-7C79-4D11-8818-BA8499FA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6795-5D02-41A3-876D-821DA849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5CB7F-ACEB-4EAE-A724-6ACB1B8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3E7-5B5F-4121-8A27-0706120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27E51-2995-4808-8DA8-E244F09B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B537A-703B-4ABA-BECC-4345077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6F104-E9CC-4753-84B5-D457BF5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4693-1F57-4225-AECB-55CC9F88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258D-16E7-497A-B0A9-8DC13A7A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29CD-A8B9-41EC-9325-9C4A7F2B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F092-099A-4773-9F9D-AC9D3B5F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1E10D-9B03-4D4E-A7DC-1CBCAE9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70FF-4807-4171-9681-8E164E03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F344-BCF3-42F8-9135-1CDCE2FB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415-9E6F-4C73-8CF7-17DD4DF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BA3C-CDCC-4AA7-ABF9-C12336B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A998-FC70-4761-9240-C6EDA5C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A7B95-457B-4057-B066-35391C9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C9897-7DCA-4959-85FD-75A8FED2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6FDF1-EEE4-4C3B-8851-E3DCCD9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7BBF7-F39A-4AC6-9C86-CB5BF4F8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FB3E7-8012-45DA-89F8-D2296A45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9686D-21AE-4933-B1CD-9F93F492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C9C3A-6D20-43E8-A1AA-53A9667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77827-387B-4A9C-8BFE-93FAFD7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0EB7-49C3-4704-9B5B-598513E0A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F81-EF28-4CF0-A001-72D49DF4C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392-9907-4FC0-9762-9981F1217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D8E3-1ED6-4A28-AE85-01BDEC46A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0FE-B965-44E0-B571-413E45B0C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CB3B-433E-4652-9047-42246E810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21F-6F5B-4CCF-B405-FE7AC86E4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25B-88D4-4AB2-A757-998C980DF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3741-9529-46B4-856B-217876FC55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CAB-7078-4D49-85D0-717940C56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DFF-CBCC-4B9B-A25C-19D7B9863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87CA-7D7B-4298-A4E8-A0411835F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1875-09EC-4C72-ABD6-1B831F51A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1D9C-CBF4-4D39-A871-E098627D4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9901-2CC1-46EE-8C6C-D1E37312D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61F4-7219-406E-AB4F-CB454368E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AFC8-3A9E-4321-9E27-F1473671C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0AD-06AF-49D2-81EE-186AD6B4D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7FE-DC3A-48C4-8DFD-F4CFA2E68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1A1-810B-402D-B532-0CAF681DA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202-B899-4A95-9036-90E1EC75CD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A0B-6A5F-4FEE-A24C-6BC842C07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518-44FE-4578-9793-7A625FFE5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3176-11CD-4223-BAC3-C225CC879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DC65-A4FF-4067-9A52-567E10131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DE48-DE78-4443-9608-3A2EF8211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0AD-40F8-48B5-9CBF-A920261F6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42FE-A5F4-425D-9047-6AC7F3EE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17FB-C8A1-406C-9D18-C7E0982EA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BC23-C6D7-41EF-A047-2C34EE74D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47C-61C1-441B-9B02-9ECCBA531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963-3D75-4796-86BA-1368D76A9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F53E-BA0C-401D-BA26-44108D3006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636-12C7-4A0A-AED0-434297844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C52D-BF3D-44BD-A8F1-2540E845B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D22B-0922-4D98-92FD-E4DB020A9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6557-1BF1-496C-AC27-637806BEF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47E-69BA-4422-94BC-8F6F51EC6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443-18E3-4C25-81C6-2F6B3539F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1E4-5131-44E9-985A-B98620F8A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28800" y="2116080"/>
            <a:ext cx="3686400" cy="9050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400040" y="3622680"/>
            <a:ext cx="6343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476280" y="2238480"/>
            <a:ext cx="8191440" cy="2381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1116000" y="280980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971640" y="406224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73080" y="893880"/>
            <a:ext cx="8999640" cy="5610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476360" y="2276640"/>
            <a:ext cx="1150920" cy="4489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86328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1547640" y="411948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1979640" y="473868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1547640" y="5359320"/>
            <a:ext cx="10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7"/>
          <a:stretch/>
        </p:blipFill>
        <p:spPr>
          <a:xfrm>
            <a:off x="2050920" y="5964120"/>
            <a:ext cx="100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61920" y="966960"/>
            <a:ext cx="9018720" cy="4924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1152360" y="1000080"/>
            <a:ext cx="6839280" cy="485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318960" y="1609560"/>
            <a:ext cx="8504280" cy="3638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403280" y="234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40328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40328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332000" y="4149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403280" y="465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95120" y="1038240"/>
            <a:ext cx="8751960" cy="4781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357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14440" y="1424160"/>
            <a:ext cx="8115120" cy="4009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905040" y="2262240"/>
            <a:ext cx="7333920" cy="23335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281160" y="1614600"/>
            <a:ext cx="8580240" cy="3628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609480" y="1967040"/>
            <a:ext cx="7925040" cy="29239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33240" y="1952640"/>
            <a:ext cx="7875720" cy="2952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576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166680" y="819000"/>
            <a:ext cx="8809200" cy="5220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3708360" y="420696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300720" y="48261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6156360" y="543096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1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